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5C6-B37D-4D28-8352-3B2826E2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27E-B229-4DA8-977D-4243A877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82E-3CCF-4795-B53E-31AED3A8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6AF-FD96-43E0-81CE-39CA8D4B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D263-C2F9-469C-9363-78F0ECD3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DE1-40B6-4602-AA77-6BA81CED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9E6-6CAA-4A84-9C10-744C7EF9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D45-D93E-4CDC-97BF-E7ECB78E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AE8-A2D4-4484-8729-0BCB04AE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628-AE43-4B92-84E8-0E3163C3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EF14-099D-4613-A135-3773C565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975-352B-464F-AA76-065A6902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2A63-92BB-41E3-BB76-65134B9DB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aty of Versa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553080" cy="20574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able to explain how the treaty of Versailles could have contributed to the causes of WW2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38320" y="0"/>
            <a:ext cx="3505320" cy="68580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you see in this cart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this repres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the cartoonist is trying to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9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message of the carto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ark = correctly states that the cartoon is about the Treaty of Versailles and how it was too har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 marks = as above but also give examples from the cartoon OR includes supporting knowledge e.g. the army was reduced, reparations were too high, germany lost land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marks = as above but includes BOTH supporting knowledge AND examples from the cartoon along with a developed explan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447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useful are cartoons for leaning about Histo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page 155, quickly in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your book list the differences you can find between the map on that page and the map on page 1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re the key terms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took the blame (war guilt cla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had to pay reparations (the actual figure of 6.6 billion pounds was decided upon late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lost its colonies and some terri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’s army was massively reduced, it was banned from having an air force and could only have a tiny n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52424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people think of the trea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one observer at the conference clearly wasn’t impressed, he sa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peace, it is a truce for 20 yea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French thought that Germany had not been treated harshly enough, whilst Woodrow Wilson felt they had gone too f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benefit of hindsight it is often suggested that the Treaty was too harsh and contributed towards the rise of Hitler and WW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 others have suggested that it wasn’t harsh enough and the problem is that is wasn’t enfor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t cartoons from the tim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www.activehistory.co.u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in and then click on ‘GCSE histor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go to “4. The Peace Treaties after World War O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all the way down to ‘Interactive cartoon analysis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cartoons 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this 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save it to print lat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do this o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2590560" cy="2227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2200" y="4876920"/>
            <a:ext cx="2506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84872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61048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8-01-24T07:52:42Z</dcterms:modified>
  <cp:revision>7</cp:revision>
  <dc:subject/>
  <dc:title>The Treaty of Versailles</dc:title>
</cp:coreProperties>
</file>